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0B9-52F3-46F2-8903-F7B79207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045-A8D2-4642-BE75-73653E6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53F-EB5A-4CCC-A8C4-FB0631B8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73E-868A-4D2F-ABD9-B2C9BA4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65E-6F5A-43DD-8748-5C342BD6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4BA-63CD-4DC5-BE3B-294B2F6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6FA-F96F-4323-88D0-F574E6B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73C-4B40-4A8D-9289-7C8BA0A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173-1707-40B2-BB49-78B0A3F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7A0-06FD-47BC-AA8A-4A8CA30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DF5-F0C0-4DC3-9EBB-3586830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CFA-6D83-42C6-B687-756044E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3A5-0B02-4F9D-9853-2213E752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1028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010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7315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5486400"/>
            <a:ext cx="6629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96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914400" y="48006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914400" y="13716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762120"/>
            <a:ext cx="6858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066680" y="4191120"/>
            <a:ext cx="685800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066680" y="11430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6705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43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44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5257800"/>
            <a:ext cx="6858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239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1:22Z</dcterms:modified>
  <cp:revision>1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